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FF3-A899-48A7-B1CE-4B0FC22A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071-FE3A-45C1-AD4A-90F4262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03F-88A2-4D01-B0A2-1D9B605D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EE4-DBAF-4265-B8ED-FD5E4F8B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F40-962B-4B27-AF6C-5544E447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185-7705-441A-8B7B-AAE4463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60E-A852-47A1-B929-97518695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65E-702D-44C8-9EFB-0823A235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7AF-7ADC-4F75-9C4C-670043BB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9EA-67A3-48D2-93E2-426DBAE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889-5B73-4147-B17F-60C43E0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19D-1445-4B40-893F-6D4979A3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33D-DC77-4133-93EF-0A33A2294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916280"/>
            <a:ext cx="69134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PPEARANCE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6178320" cy="481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33400" y="5445000"/>
            <a:ext cx="39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Bleached 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276360" cy="471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77160" y="1622520"/>
            <a:ext cx="423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CONTA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LEN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19400" cy="535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435640" y="4005360"/>
            <a:ext cx="2808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TTO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iercings.jpg piercings image by Boraozen"/>
          <p:cNvPicPr/>
          <p:nvPr/>
        </p:nvPicPr>
        <p:blipFill>
          <a:blip r:embed="rId2"/>
          <a:stretch/>
        </p:blipFill>
        <p:spPr>
          <a:xfrm>
            <a:off x="5508720" y="2924280"/>
            <a:ext cx="3124080" cy="361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47640" y="3357720"/>
            <a:ext cx="3429000" cy="315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01960" y="620640"/>
            <a:ext cx="369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comic"/>
              </a:rPr>
              <a:t>PIERCIN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457200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403280" y="4508640"/>
            <a:ext cx="56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YE-SHADO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817560"/>
            <a:ext cx="7345440" cy="3525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5013360"/>
            <a:ext cx="673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9900"/>
                </a:solidFill>
                <a:latin typeface="Arial"/>
              </a:rPr>
              <a:t>FACE GLIT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66848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68000" y="6033960"/>
            <a:ext cx="295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KE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8040" y="1052640"/>
            <a:ext cx="458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0000"/>
                </a:solidFill>
                <a:latin typeface="Bauhaus 93"/>
              </a:rPr>
              <a:t>lipsti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5880" cy="5675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932360" y="3284640"/>
            <a:ext cx="3456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NIS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16:38Z</dcterms:created>
  <dc:creator>I.E.S. FEDERICO GARCIA LORCA</dc:creator>
  <dc:description/>
  <dc:language>en-US</dc:language>
  <cp:lastModifiedBy>rmi</cp:lastModifiedBy>
  <dcterms:modified xsi:type="dcterms:W3CDTF">2009-04-23T02:06:54Z</dcterms:modified>
  <cp:revision>3</cp:revision>
  <dc:subject/>
  <dc:title>Diapositiva 1</dc:title>
</cp:coreProperties>
</file>